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2B0-EA96-4F28-AE61-4AC75742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CDF-0D2D-4601-B290-ED505514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F63A9-E566-4C33-AF42-EA8DC25C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CA428-A61B-45A0-AFD3-37013ED4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09F2-278D-484C-9E49-A14CB26C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EA2C1-9846-4AB5-BD07-3BEDA47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24A86-1145-45E3-ACED-45CCF098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4B29E-C8D2-4F5F-A888-A65076AF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41600-FE33-49D1-AEFD-60C96CD9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74C10-443F-487D-9E61-96C69D92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0A818-9FA5-4163-821E-B2182638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A844E-F39E-4593-9558-CC000C9B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190-0528-465B-8D49-966FD9F4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7659B-FA14-47FC-BE8D-9E6C59A6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22415-0D0E-4292-9316-462F874C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114C2-322B-4ED1-8721-04304905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2214C-37CC-4C42-B735-348AF79F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A14E1-47E8-4FBB-B27F-3A4C1690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40263-5883-4980-AC2E-73620304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0E736-831B-4A46-92CC-DBFBB9FD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64807-650A-4A15-B999-8174EA9A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AD415-1EF1-4D40-8799-CD2AE9BB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50389-A148-4BE6-A1E1-08174304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CBD-60FE-459F-9829-2B0A7BE6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B2406-4EE3-4726-B959-DDFEA725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15300-3311-4DFF-BE8A-C1A25F89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522AE-05D8-4EDB-BA05-17B56F5C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E8874-8A40-4F2B-9792-313DAAA6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5F831-0931-4FFA-9FEC-3B367949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4A95D-B155-4BA1-9E63-F8A359C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FD95E-A9FC-4E32-A73D-C07697B3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D15DA-D544-43A7-9561-08303B73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694F6-8925-4035-B973-2AF6567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4A485-4CB2-4535-A5D5-8147D79A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0C46-CBEA-4251-A259-636B42B0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99BA1-4FC1-4AB3-BF1E-26A639D0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57AC0-0D8E-4A02-90E0-B3909758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484D5-1B12-486E-AE5D-7FF5DE93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F517DF-09BA-40DB-AD80-0672E714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037238-B783-4A48-A352-311F8CA0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DFBA1B-83FA-4559-8C0A-58849F4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405F56-FF8F-4F95-A451-4E962718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075C71-49A4-4071-BE68-2BC3B569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A076E5-C001-4458-B102-E704A7E4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07B447-AB9D-44F0-B2DE-DC0A0A0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9F8-F543-4913-936F-FE06B863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EA9D36-FC27-4D8C-A3A6-6D6DC566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258028-1BA8-40B2-8B74-F15C99D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5F25AF-DB49-4576-8A22-EA3F54EF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C8E6EF-DDC0-4513-B9D9-002F02AC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3AD810-0E06-4B7B-8472-5FDB59D1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B2E43-A4F1-4224-9C65-FA70C6CE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7E3E6-AC4D-4E22-8F0B-08DC8677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43340-62C4-4AB2-AF01-1B492B5A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27F1A-916B-491A-A6EF-6C606654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10A2E-2F30-4FBC-A8B3-9FCC07BD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D5A2-DF73-4EE9-BE7C-BE2D26AB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48226-5B40-4447-B83B-4DEF1204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2FE17-D574-494A-845B-411A4E89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1682D-2BAC-4F03-8B29-8697CCF8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62EE9-01B3-47F8-88F2-51323B1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43ED5-01A6-474F-B4BE-E3BB3D75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40607-9275-4815-8FA1-3D7CD25C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5ABB7-CBFC-49E8-9F63-B936991A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A11F62-0852-49B5-BB7F-97C4604F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1F8ED8-75EC-44D0-B20E-8FB73377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91783F-17F9-4CCF-B64B-9F2D03EA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E012-9665-430C-BB8C-807D19C4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D64CF4-2C16-44F2-89B1-448DE80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B5B93C-DCCF-4626-95A6-251142B4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67C9CD-9001-4906-A2E5-9B4D160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7EE385-8BBB-4E50-8450-4088605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844201-178B-4123-9BE9-709A4BA4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5B1F38-64AB-460F-BC6F-294A60C0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58C6ED-44F2-4B1B-9E8A-741E9983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C26698-CD53-4B6F-A2A1-8219EB69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135540-D1A7-45F1-A1E4-C6D44797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09BD0D-516F-4FBE-9852-066D9058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6C1B-9563-4399-A705-E20F66BD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6FB1C7-7834-4A26-B856-847159C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2EB66A-C8FC-4E1A-A55E-500863A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BB11EA-E77F-42A8-B776-BE83E7E8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CE1479-40FF-47E5-A908-645FFAB7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E963DC-9AF3-43E5-A426-3C59406D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B33A7E-E477-44FE-9CD0-563D82D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2C994D-F615-4441-90BB-0C0AA02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ABEED8-ADC2-4016-B5EE-C9282767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280349-800D-4533-8A51-D3D2E87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738CE4-7722-4EEB-AA98-A84EB683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FE27-549C-4B41-A81D-B2C3598F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4DC39E-4C05-427C-BDED-6A1CA301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EBE989-7B51-4A9D-99AA-950EA8FF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8A7E97-5043-42EA-8746-2683A2F3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0082AE-53EC-4ACF-924F-C8736E93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1B1AF0-8222-4A61-BFC9-AEE78021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C09FF9-6560-4B38-8936-1C4C84EB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54C581-0BC3-44D5-8442-6266F09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14D4A9-7991-4F33-A47C-0AAA43F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C6EC45-CEBE-4AE7-987F-9ABD6CB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F6240A-3A37-400B-8F98-F155CB7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F468-557B-4069-A0A4-BAEEC5E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FEE907-63BA-47A0-9D19-3B63EF44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27A7A9-FCD8-42B5-9553-86AAF92E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008840-42BC-40F5-9111-31FF22D4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82EB4-2BBA-439B-A8B9-174975C7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173D9-7275-45C4-85CA-A706967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42E8E-2BC8-4B4D-9DEB-77C54F65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E80FF-E3DC-464E-A076-2C365307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06317-8CBC-444E-9E21-C3B278FF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17BEB-540F-4AE1-BAC3-621C3079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4205A-B8AF-48D8-A3F5-3370B73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788-020B-4D2D-B353-5E67FCED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F522-7A37-48F9-9542-0BB76EB7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BFF9D-B8A3-4739-9207-694EC525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7D11B-2007-42CC-AEE9-7254A90C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9623A-902F-4C52-B9BB-4ADD4294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3C9E9-BDCC-424D-BA1F-8037B5DC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6FCB2-FC61-4F5C-832E-3FB266E5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A28783-A524-4C46-BB37-D39510FA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246845-5059-4966-90CA-3FF4E4A5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B922F0-7DC4-4F00-A3BF-ABB6815C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BAEBE3-B9F1-4358-9F20-2C9518F2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9709C9-2B69-4469-A3F6-E82E2305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E043-8E4D-4FE4-ADF5-377AE3D0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BB70F5-E6D3-46A7-9FB0-C93C9FC4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024846-DC07-47BC-9510-3C614D4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AF83C6-93FB-4694-A349-F06077C7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706EB8-7301-410A-A955-CB4A3A5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69E3BE-4A1A-4DA8-BA29-358038E9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D1273F-D4BF-4AEE-B4CB-397F0BFA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8084CD-3074-4B16-80AF-FF3229A9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BE298-B30F-43E5-B233-4DE32D0D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BD24B-BA98-4D14-98DB-0B2902CE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027C8-0D85-4539-9ECD-753D9B08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F290-B476-4BCA-9647-50A7DFC2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D62DD-B925-4A85-B777-A01AD875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4B38A-ADB7-4428-A1C3-C9E38C00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3CDD7-41FF-4C8E-A610-B40F0017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7C98C-E6B2-4938-BB98-DC607D3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94C9B-5CD2-42D2-9AA8-0F050C57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CBCF21-C318-40BE-BC21-50A42C9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F0125E-DC8A-440F-8699-D2A2F365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0E890E-74D3-4C5B-A0EC-B728421A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F1C230-BEFB-427E-B4D6-91096250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24A5-3C57-41F8-BB25-72347C65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89D3-CDB0-49C0-823E-593C4137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3E36-3EDA-40B3-95F7-E76DA3FF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718B-B72C-4505-A4D6-FADED18F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F3E7-9484-4D9F-9B1A-5E91252F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5091-B078-4DA4-9D25-45E33D95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22639-963A-4B46-BA63-AB130EE9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D9C-6F1A-4009-BB89-59E1B81A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BF89-033A-4960-A89F-C4D0A070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5868-D1EB-4F50-9C46-A8A648E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5E52-124F-40CD-B537-935A9F84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C7EB-1687-4CE1-AEE9-257F7A3F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A2F57-5B0F-466A-9B7E-CD0EDA33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15B5-769A-484C-A418-3170617D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2FD9-0117-465F-94F7-8F726C43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3258-8823-4F9C-9711-4BD15502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F5BAF-DB49-44D0-90CD-C1F9EC12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0245-4804-479B-84D1-A1E1DEDC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BE0-763D-4D2D-9633-C5A2260E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2CED9-64F4-4293-8D25-E1576649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9B444-1727-420B-A32E-E6FB926A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AEE0-0CB5-48E7-9078-C5A5E0F4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39FCE-C81D-4D14-AC80-EA7A5EA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6A15-B30A-45D8-8137-9AFCEFDF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67C9-43A7-42F9-A73B-004E0AA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7981-AADC-4BE6-8F4C-75F0402A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5E5A4-5141-4D7B-AF05-D30466C5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55BD-9AF7-402C-9E0A-C9B9327C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024F9-FD03-4D35-BFDF-D6544CEE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44A-42B0-40BB-8A52-8A58B7A3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637D-3658-480D-9DE4-93FAA5A2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93F6E-04F8-4C30-9CD7-DB7A029F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10AD-1A13-443F-B414-61D4BCA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BBAE-EC1E-420D-9E51-759A4C6D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46B1B-B7A1-4C5D-A520-F913F65B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9BC2-D808-4550-9140-8FE98DB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FB9A1-8B70-4277-8011-E881D704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D5A7-4E59-44E3-9481-FEB89AAD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A774-E568-4527-98C9-0F458EE4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8AC5-B531-4B69-A9B8-E0E80516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183-8C78-462D-BDF3-34A0D6E8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071A-398D-4662-92EC-24BA3E83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4481-9174-4EF3-81A1-093DA4DB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79DD1-ECF2-4E96-8BAB-50A8F40C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81858-E2D1-48AF-8F8A-DC3F6E16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931FD-CF65-4D27-90ED-AEF80237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B224-5D57-4D3E-8D07-107F8C76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324C-F93E-4B21-9890-48EE27B5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E6135-A5FF-41C0-87D7-7A2C1009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BA4A-B94B-4065-8896-8D4FE5E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B6745-0A4C-48B8-B5B4-A2523EB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FA6-C1BB-408A-9122-23AB932F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50FC7-834B-4F8D-83B0-5579490D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3B827-6F54-4BF3-B7BC-DBBE6E69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301EB-56EF-454D-93B0-D21D10E7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1F3AE-8756-4720-A945-2CB1B355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90C3A-2D25-4A28-B992-1587D0BC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95BDA-B1DD-4E28-8FF8-ACDFC2FB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9A727-6D50-4A2D-AF32-F9454293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49400-F4F0-4920-9C53-B31BE79D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E963D-6E7B-4B16-A7E5-D297A6A0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5CA93-1D66-4752-954D-7ADD9F4E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1AD-6FEE-4A8A-82B5-3090FF81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3E63C-3201-43B2-898F-2A10FFF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DD76-7D17-43A5-A3E8-BF7300D3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D3A5C-D19D-4EE2-9209-7797C8F6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2CD68-FBF9-435E-BFBE-37996C60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D502A-987F-4CF9-A02B-4815B416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F8526-0326-4BD5-A2BF-C4D88F2C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E5A72-441E-47D8-A244-B2788353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2417C-8E89-40C2-B05F-FFFAB132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FE08B-EADA-4058-8AC3-7C196774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AFA2B-2190-4024-A124-503B5B3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F1A-015D-4791-8005-0178CDE7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3EFA-3E0F-4F7B-8E07-2EB6923E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B28CE-0515-4537-8F91-EF5BBBAF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A835-7877-45B2-8298-A3004D91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38886-A387-4C55-BEE5-F1A49359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DF5B-12E8-45EF-BD81-C5987219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132B9-F84E-4EA4-A79D-25A4666E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BEA10-73FA-4C94-8027-FC75BCDF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68B0A-57CD-463E-877A-D8590D12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3FFA2-DEBC-4E2D-8316-E6ECCF2E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426EF-35D5-4DA2-8A9A-3DF47A82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651-C132-4E0E-9BD8-4E4B94C1EAE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8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462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66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DBD6-64D0-46E0-B50B-B73C11F353F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7F50-0E86-4AD3-A064-526F322A3A0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EE15-8C8F-4EF3-878B-BAE40989CA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061C-A7F8-4C3F-92F0-D33635E4CA4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16E2-5A85-4190-80E1-04344A703F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41B8-CEAE-4F8C-95D6-2EDBA1EBEED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18B9-FDFC-4898-B567-DBA6D32497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9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0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1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D3B1-0AE0-4D14-9ABD-0BAE28477D8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5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4AA2-6994-45C8-A0BD-F76CD0E9BD2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ftr" idx="5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55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5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5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6151-8EB3-4DDE-837C-7462F6D25D3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C240-AA4F-48A1-9ACE-FAB0AC91BB3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7544-8D4D-4E86-99C7-D204A07C5DD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F373-B3CC-44F2-8FD6-8117190C50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616E-51A1-4436-9899-223B4E61D18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D27-2CED-403A-B100-475CCEF6D77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95F-8542-48EB-9535-735F7C10B10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9C5B-261C-482C-BEEC-3CE1DB5CFA1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2754-7CC3-4311-8725-52D05B88757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Rectangle 4" descr=""/>
          <p:cNvPicPr/>
          <p:nvPr/>
        </p:nvPicPr>
        <p:blipFill>
          <a:blip r:embed="rId1"/>
          <a:stretch/>
        </p:blipFill>
        <p:spPr>
          <a:xfrm>
            <a:off x="603360" y="-212760"/>
            <a:ext cx="7937280" cy="11397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2" descr="http://www.dhm.de/lemo/objekte/pict/f60_1214/index.jpg"/>
          <p:cNvPicPr/>
          <p:nvPr/>
        </p:nvPicPr>
        <p:blipFill>
          <a:blip r:embed="rId2"/>
          <a:stretch/>
        </p:blipFill>
        <p:spPr>
          <a:xfrm>
            <a:off x="2743200" y="990720"/>
            <a:ext cx="3638520" cy="5238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7632720" cy="115884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spartacus.schoolnet.co.uk/GERkaltenbrunner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jewishvirtuallibrary.org/jsource/Holocaust/Kaltenbrunner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historylearningsite.co.uk/ernst_kaltenbrunner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deathcamps.info/Nazis/page_6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ushmm.org/wlc/article.php?lang=en&amp;ModuleId=1000711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rnst was born on October 4, 1903 in Ried, Austria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He studied law, and he obtained a law degree in 1926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77" name="Rectangle 3" descr=""/>
          <p:cNvPicPr/>
          <p:nvPr/>
        </p:nvPicPr>
        <p:blipFill>
          <a:blip r:embed="rId1"/>
          <a:stretch/>
        </p:blipFill>
        <p:spPr>
          <a:xfrm>
            <a:off x="596880" y="36360"/>
            <a:ext cx="8199360" cy="11527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http://i55.servimg.com/u/f55/12/45/91/85/heydri10.jpg"/>
          <p:cNvPicPr/>
          <p:nvPr/>
        </p:nvPicPr>
        <p:blipFill>
          <a:blip r:embed="rId2"/>
          <a:stretch/>
        </p:blipFill>
        <p:spPr>
          <a:xfrm>
            <a:off x="4038480" y="1371600"/>
            <a:ext cx="483552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Ernst Kaltenbrunner joined the Austrian Nazi Party in 1932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In 1934, he became the head of the Austrian S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Due to his Nazi views, he was jailed in January of 1934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*  In his second position, he controlled the Gestapo, Criminal Police, and Security Servic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80" name="Rectangle 3" descr=""/>
          <p:cNvPicPr/>
          <p:nvPr/>
        </p:nvPicPr>
        <p:blipFill>
          <a:blip r:embed="rId1"/>
          <a:stretch/>
        </p:blipFill>
        <p:spPr>
          <a:xfrm>
            <a:off x="682560" y="-12600"/>
            <a:ext cx="7954920" cy="2371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 txBox="1"/>
          <p:nvPr/>
        </p:nvSpPr>
        <p:spPr>
          <a:xfrm>
            <a:off x="533520" y="457200"/>
            <a:ext cx="81532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bri"/>
              </a:rPr>
              <a:t>On September 11, 1938, he was promoted to SS Gruppenfuehrer by Adolph Hitler.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bri"/>
              </a:rPr>
              <a:t>He became the Chief of the Security Police and SD in January 1943.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bri"/>
              </a:rPr>
              <a:t>Later, he was rewarded for his work by Hitler by receiving the Knight’s Cross of the War Merit, Cross with Swords.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457200" y="8380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fter the attack on Hitler on July 20, 1944, he gained direct access to the Fuhrer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n the last years of the war, he was a large figure in the “Final Solution”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83" name="Picture 2" descr="http://www.holocaustresearchproject.org/holoprelude/images/kartenbrunner1.jpg"/>
          <p:cNvPicPr/>
          <p:nvPr/>
        </p:nvPicPr>
        <p:blipFill>
          <a:blip r:embed="rId1"/>
          <a:stretch/>
        </p:blipFill>
        <p:spPr>
          <a:xfrm>
            <a:off x="5105520" y="914400"/>
            <a:ext cx="329400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457200" y="1752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n May 15, 1945, American troops captured Ernst after his escape to South Germany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He was tried and found guilty on counts 3 and 4, war crimes and crimes against humanity, and sentenced to death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5" name="Rectangle 3" descr=""/>
          <p:cNvPicPr/>
          <p:nvPr/>
        </p:nvPicPr>
        <p:blipFill>
          <a:blip r:embed="rId1"/>
          <a:stretch/>
        </p:blipFill>
        <p:spPr>
          <a:xfrm>
            <a:off x="-85680" y="480960"/>
            <a:ext cx="94741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2000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2" descr="http://www.holocaustresearchproject.org/holoprelude/images/on%20trial.jpg"/>
          <p:cNvPicPr/>
          <p:nvPr/>
        </p:nvPicPr>
        <p:blipFill>
          <a:blip r:embed="rId1"/>
          <a:stretch/>
        </p:blipFill>
        <p:spPr>
          <a:xfrm>
            <a:off x="685800" y="228600"/>
            <a:ext cx="7729560" cy="5410080"/>
          </a:xfrm>
          <a:prstGeom prst="rect">
            <a:avLst/>
          </a:prstGeom>
          <a:ln w="0">
            <a:noFill/>
          </a:ln>
        </p:spPr>
      </p:pic>
      <p:sp>
        <p:nvSpPr>
          <p:cNvPr id="987" name="TextBox 2"/>
          <p:cNvSpPr/>
          <p:nvPr/>
        </p:nvSpPr>
        <p:spPr>
          <a:xfrm>
            <a:off x="685800" y="5715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orbel"/>
              </a:rPr>
              <a:t>This is a picture of Ernst Kaltenbrunner during his 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Kaltenbrunner was hanged on October 16, 1946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89" name="Rectangle 3" descr=""/>
          <p:cNvPicPr/>
          <p:nvPr/>
        </p:nvPicPr>
        <p:blipFill>
          <a:blip r:embed="rId1"/>
          <a:stretch/>
        </p:blipFill>
        <p:spPr>
          <a:xfrm>
            <a:off x="2451240" y="66600"/>
            <a:ext cx="445608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9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rbel"/>
              </a:rPr>
              <a:t>Ernst Kaltenbrunner sent millions of Jews and political suspects to their deaths in a variety of concentration camps.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91" name="Rectangle 3" descr=""/>
          <p:cNvPicPr/>
          <p:nvPr/>
        </p:nvPicPr>
        <p:blipFill>
          <a:blip r:embed="rId1"/>
          <a:stretch/>
        </p:blipFill>
        <p:spPr>
          <a:xfrm>
            <a:off x="2719440" y="55440"/>
            <a:ext cx="3662280" cy="11034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" descr="http://www.scrapbookpages.com/Mauthausen/MauthausenPhotos/OldPhotos/Mauthausen47.jpg"/>
          <p:cNvPicPr/>
          <p:nvPr/>
        </p:nvPicPr>
        <p:blipFill>
          <a:blip r:embed="rId2"/>
          <a:stretch/>
        </p:blipFill>
        <p:spPr>
          <a:xfrm>
            <a:off x="4572000" y="1981080"/>
            <a:ext cx="403704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26:22Z</dcterms:created>
  <dc:creator> </dc:creator>
  <dc:description/>
  <dc:language>en-US</dc:language>
  <cp:lastModifiedBy> </cp:lastModifiedBy>
  <dcterms:modified xsi:type="dcterms:W3CDTF">2009-11-25T17:08:46Z</dcterms:modified>
  <cp:revision>17</cp:revision>
  <dc:subject/>
  <dc:title>Slide 1</dc:title>
</cp:coreProperties>
</file>